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900-6FB0-44C3-8CEF-8BD81DE1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D44-AC63-4317-B956-E94F989B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1B6-D0A5-448A-A38F-E4FBA49E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6D3-796C-4CC3-9B2F-0E5FC24A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3443-8715-4D09-B28D-C68D9EDB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ECE8-FB9D-442A-B55F-D80A44DB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0B0A-6459-460A-A8E4-794D7F8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6C7C-0DEC-42C5-B92F-D4D8FA52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4427-8226-4975-B5E9-C4DEE903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8A9-C63E-47C3-AF61-F7A16DB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E04A-47C1-4993-94DF-402D763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830-C086-48C0-9548-C03311A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3CBD-BC1D-4BB5-9D1C-49137EE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12E5-A268-4A1A-8B94-D4E0325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DC4E-8125-4081-B57A-2F7AC83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D14-822F-4035-AE6F-3A4CF8A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20F-B951-4F95-9104-D245E462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6E4-EF8A-4AB3-86AA-286476E8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11C-6E09-4EC7-8427-5E56F1D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CF4-C2A2-4F8E-802F-9551D26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2C7-5B50-46AB-8B1B-5664EF6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57A-11AE-425D-925C-081D970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DD7-0493-4712-A398-305326D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172-81CC-4B18-B121-A4967BC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677-8A38-4B09-8E13-BE33B2344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D07-6F5E-40E8-903F-4FE3CE3D1F2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5954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Orthographic, Obliqu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&amp;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Isometric Projections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4120" y="4633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reated 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pentry &amp; Joinery S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ville TAF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13" descr="MCj02506650000[1]"/>
          <p:cNvPicPr/>
          <p:nvPr/>
        </p:nvPicPr>
        <p:blipFill>
          <a:blip r:embed="rId1"/>
          <a:stretch/>
        </p:blipFill>
        <p:spPr>
          <a:xfrm>
            <a:off x="878040" y="3160800"/>
            <a:ext cx="173484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j0291984"/>
          <p:cNvPicPr/>
          <p:nvPr/>
        </p:nvPicPr>
        <p:blipFill>
          <a:blip r:embed="rId2"/>
          <a:stretch/>
        </p:blipFill>
        <p:spPr>
          <a:xfrm>
            <a:off x="6618240" y="3121200"/>
            <a:ext cx="1538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torial drawings most commonly used in the building trade are eith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OMETRIC OR OBLIQUE PROJE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00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y are probably used more in freehand sketches on the job, than detailed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Photo 00006"/>
          <p:cNvPicPr/>
          <p:nvPr/>
        </p:nvPicPr>
        <p:blipFill>
          <a:blip r:embed="rId1"/>
          <a:stretch/>
        </p:blipFill>
        <p:spPr>
          <a:xfrm>
            <a:off x="4341960" y="3860640"/>
            <a:ext cx="34718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torial drawings most commonly used in the building trade are eith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OMETRIC OR OBLIQUE PROJE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Photo 00006"/>
          <p:cNvPicPr/>
          <p:nvPr/>
        </p:nvPicPr>
        <p:blipFill>
          <a:blip r:embed="rId1"/>
          <a:stretch/>
        </p:blipFill>
        <p:spPr>
          <a:xfrm>
            <a:off x="1384200" y="2660760"/>
            <a:ext cx="64296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sometric projection is a method used to depict three sides of an  objec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 ISO meaning equal, metric meaning measur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 isometric drawing shows length, width &amp; thicknes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wever any lines which are not parallel to the length, width &amp; thickness are not true measurement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or example the diagonals of a square or rectangle are equal on the actual object , but do not appear so in isometri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vertical lines are drawn vertically and the angle is 30 degre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Photo 00007"/>
          <p:cNvPicPr/>
          <p:nvPr/>
        </p:nvPicPr>
        <p:blipFill>
          <a:blip r:embed="rId1"/>
          <a:stretch/>
        </p:blipFill>
        <p:spPr>
          <a:xfrm>
            <a:off x="7480440" y="6029280"/>
            <a:ext cx="12063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sometric projection is a method used to depict three sides of an  objec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Photo 00007"/>
          <p:cNvPicPr/>
          <p:nvPr/>
        </p:nvPicPr>
        <p:blipFill>
          <a:blip r:embed="rId1"/>
          <a:stretch/>
        </p:blipFill>
        <p:spPr>
          <a:xfrm>
            <a:off x="1346040" y="2392200"/>
            <a:ext cx="6496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blique projection is another method of showing three sides of an object in on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698560"/>
            <a:ext cx="822960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 oblique drawing shows one view in true propor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sides of an object are drawn full size and at a angle of 45 degre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‘PROPORTION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e drawing we halve the measurement of the oblique side.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Photo 00008"/>
          <p:cNvPicPr/>
          <p:nvPr/>
        </p:nvPicPr>
        <p:blipFill>
          <a:blip r:embed="rId1"/>
          <a:stretch/>
        </p:blipFill>
        <p:spPr>
          <a:xfrm>
            <a:off x="5800680" y="5083200"/>
            <a:ext cx="2205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blique projection is another method of showing three sides of an object in on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4" descr="Photo 00008"/>
          <p:cNvPicPr/>
          <p:nvPr/>
        </p:nvPicPr>
        <p:blipFill>
          <a:blip r:embed="rId1"/>
          <a:stretch/>
        </p:blipFill>
        <p:spPr>
          <a:xfrm>
            <a:off x="1292400" y="2271600"/>
            <a:ext cx="65055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can be better illustrated if a cube is drawn in bot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isometric &amp; oblique proje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08304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diagonals on the face of the oblique drawing are equal because this is a true view but not on the isometri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Photo 00009"/>
          <p:cNvPicPr/>
          <p:nvPr/>
        </p:nvPicPr>
        <p:blipFill>
          <a:blip r:embed="rId1"/>
          <a:stretch/>
        </p:blipFill>
        <p:spPr>
          <a:xfrm>
            <a:off x="5032440" y="4336920"/>
            <a:ext cx="27432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can be better illustrated if a cube is drawn in bot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isometric &amp; oblique proje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Photo 00009"/>
          <p:cNvPicPr/>
          <p:nvPr/>
        </p:nvPicPr>
        <p:blipFill>
          <a:blip r:embed="rId1"/>
          <a:stretch/>
        </p:blipFill>
        <p:spPr>
          <a:xfrm>
            <a:off x="1828800" y="2606760"/>
            <a:ext cx="5508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the correct or true shape of an object drawn on a flat surface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30360"/>
            <a:ext cx="82296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is the main method used to represent an object in a drawing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gives three views of the object in three separate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ves three basic dimensions, Length, Width &amp; Thickn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ves three views of the object  plan, front, &amp; side elevatio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Photo 00010"/>
          <p:cNvPicPr/>
          <p:nvPr/>
        </p:nvPicPr>
        <p:blipFill>
          <a:blip r:embed="rId1"/>
          <a:stretch/>
        </p:blipFill>
        <p:spPr>
          <a:xfrm>
            <a:off x="6975360" y="5964120"/>
            <a:ext cx="12067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the correct or true shape of an object drawn on a flat surface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Photo 00010"/>
          <p:cNvPicPr/>
          <p:nvPr/>
        </p:nvPicPr>
        <p:blipFill>
          <a:blip r:embed="rId1"/>
          <a:stretch/>
        </p:blipFill>
        <p:spPr>
          <a:xfrm>
            <a:off x="1346040" y="2468520"/>
            <a:ext cx="62978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0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atement of Objectives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tudent will be able to: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produce oblique, isometric &amp; orthographic representations of objec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the plan view, front and side elevation of a particular object given  either the isometric or oblique representation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an isometric or oblique representations of an object given the plan, front and side elevatio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tate the need for using scales when drawing an objec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the plan of an object at a scale of 1:2 and 1:5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ind the measurements  from a plan when a scale is given but no measurements are given on the plan.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object shown if surrounded by 3 surfaces or planes (vertical, side vertical &amp; horizontal) each of the 3 views is called projection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three surfaces or planes are to be represented on paper as one flat surfac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Photo 00011"/>
          <p:cNvPicPr/>
          <p:nvPr/>
        </p:nvPicPr>
        <p:blipFill>
          <a:blip r:embed="rId1"/>
          <a:stretch/>
        </p:blipFill>
        <p:spPr>
          <a:xfrm>
            <a:off x="5032440" y="4135320"/>
            <a:ext cx="36543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object shown if surrounded by 3 surfaces or planes (vertical, side vertical &amp; horizontal) each of the 3 views is called projection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Photo 00011"/>
          <p:cNvPicPr/>
          <p:nvPr/>
        </p:nvPicPr>
        <p:blipFill>
          <a:blip r:embed="rId1"/>
          <a:stretch/>
        </p:blipFill>
        <p:spPr>
          <a:xfrm>
            <a:off x="1692360" y="3160800"/>
            <a:ext cx="55735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3 views of the object on a drawing are obtained by projecting or ‘throwing’ points of the object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33864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se projection lines are at 90 degrees to the surface of the object. Therefore the view obtained will be a true on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4" descr="Photo 00012"/>
          <p:cNvPicPr/>
          <p:nvPr/>
        </p:nvPicPr>
        <p:blipFill>
          <a:blip r:embed="rId1"/>
          <a:stretch/>
        </p:blipFill>
        <p:spPr>
          <a:xfrm>
            <a:off x="461880" y="4657680"/>
            <a:ext cx="2419560" cy="158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hoto 00013"/>
          <p:cNvPicPr/>
          <p:nvPr/>
        </p:nvPicPr>
        <p:blipFill>
          <a:blip r:embed="rId2"/>
          <a:stretch/>
        </p:blipFill>
        <p:spPr>
          <a:xfrm>
            <a:off x="3419640" y="4707000"/>
            <a:ext cx="2331720" cy="152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Photo 00014"/>
          <p:cNvPicPr/>
          <p:nvPr/>
        </p:nvPicPr>
        <p:blipFill>
          <a:blip r:embed="rId3"/>
          <a:stretch/>
        </p:blipFill>
        <p:spPr>
          <a:xfrm>
            <a:off x="6377040" y="4735440"/>
            <a:ext cx="2266920" cy="1482840"/>
          </a:xfrm>
          <a:prstGeom prst="rect">
            <a:avLst/>
          </a:prstGeom>
          <a:ln w="0">
            <a:noFill/>
          </a:ln>
        </p:spPr>
      </p:pic>
      <p:sp>
        <p:nvSpPr>
          <p:cNvPr id="173" name="Line 8"/>
          <p:cNvSpPr/>
          <p:nvPr/>
        </p:nvSpPr>
        <p:spPr>
          <a:xfrm>
            <a:off x="457200" y="6240600"/>
            <a:ext cx="8229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Photo 00012"/>
          <p:cNvPicPr/>
          <p:nvPr/>
        </p:nvPicPr>
        <p:blipFill>
          <a:blip r:embed="rId1"/>
          <a:stretch/>
        </p:blipFill>
        <p:spPr>
          <a:xfrm>
            <a:off x="539640" y="415800"/>
            <a:ext cx="3302280" cy="21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hoto 00013"/>
          <p:cNvPicPr/>
          <p:nvPr/>
        </p:nvPicPr>
        <p:blipFill>
          <a:blip r:embed="rId2"/>
          <a:stretch/>
        </p:blipFill>
        <p:spPr>
          <a:xfrm>
            <a:off x="5072040" y="2575080"/>
            <a:ext cx="3290760" cy="215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hoto 00014"/>
          <p:cNvPicPr/>
          <p:nvPr/>
        </p:nvPicPr>
        <p:blipFill>
          <a:blip r:embed="rId3"/>
          <a:stretch/>
        </p:blipFill>
        <p:spPr>
          <a:xfrm>
            <a:off x="539640" y="4351320"/>
            <a:ext cx="330228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3994200" y="779400"/>
            <a:ext cx="5302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plan is obtained by looking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down on the top’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of the objec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i.e. projecting onto the horizontal plane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23720" y="2890800"/>
            <a:ext cx="3956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front elevation is projected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nto the vertical plane bu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oking from the front’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995640" y="4965840"/>
            <a:ext cx="4764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side elevation is projected onto th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e vertical plan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oking from the side’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paper represents one flat surface, so if the objects drawn were laid out flat then the three views would appear as draw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4545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jections are made from one view to anoth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jecting from the plan and front elevation will give the side elevatio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4" descr="Photo 00015"/>
          <p:cNvPicPr/>
          <p:nvPr/>
        </p:nvPicPr>
        <p:blipFill>
          <a:blip r:embed="rId1"/>
          <a:stretch/>
        </p:blipFill>
        <p:spPr>
          <a:xfrm>
            <a:off x="5724360" y="4941720"/>
            <a:ext cx="250200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paper represents one flat surface, so if the objects drawn were laid out flat then the three views would appear as draw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4" descr="Photo 00015"/>
          <p:cNvPicPr/>
          <p:nvPr/>
        </p:nvPicPr>
        <p:blipFill>
          <a:blip r:embed="rId1"/>
          <a:stretch/>
        </p:blipFill>
        <p:spPr>
          <a:xfrm>
            <a:off x="1614600" y="2982960"/>
            <a:ext cx="54975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used for working drawings it is essential that the sizes or dimensions are placed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04488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ost objects to be drawn are bigger than the drawing sheet, then it is necessary to fit or ‘scale the object it so it can be placed onto the paper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Photo 00016"/>
          <p:cNvPicPr/>
          <p:nvPr/>
        </p:nvPicPr>
        <p:blipFill>
          <a:blip r:embed="rId1"/>
          <a:stretch/>
        </p:blipFill>
        <p:spPr>
          <a:xfrm>
            <a:off x="5262480" y="4475160"/>
            <a:ext cx="2897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used for working drawings it is essential that the sizes or dimensions are placed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29"/>
          <p:cNvGrpSpPr/>
          <p:nvPr/>
        </p:nvGrpSpPr>
        <p:grpSpPr>
          <a:xfrm>
            <a:off x="1612800" y="3038400"/>
            <a:ext cx="5532480" cy="3616560"/>
            <a:chOff x="1612800" y="3038400"/>
            <a:chExt cx="5532480" cy="3616560"/>
          </a:xfrm>
        </p:grpSpPr>
        <p:pic>
          <p:nvPicPr>
            <p:cNvPr id="190" name="Picture 17" descr="Photo 00016"/>
            <p:cNvPicPr/>
            <p:nvPr/>
          </p:nvPicPr>
          <p:blipFill>
            <a:blip r:embed="rId1"/>
            <a:stretch/>
          </p:blipFill>
          <p:spPr>
            <a:xfrm>
              <a:off x="1612800" y="3038400"/>
              <a:ext cx="5532480" cy="3616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1" name="Group 18"/>
            <p:cNvGrpSpPr/>
            <p:nvPr/>
          </p:nvGrpSpPr>
          <p:grpSpPr>
            <a:xfrm>
              <a:off x="1844640" y="3198960"/>
              <a:ext cx="5108760" cy="3265200"/>
              <a:chOff x="1844640" y="3198960"/>
              <a:chExt cx="5108760" cy="3265200"/>
            </a:xfrm>
          </p:grpSpPr>
          <p:sp>
            <p:nvSpPr>
              <p:cNvPr id="192" name="Line 19"/>
              <p:cNvSpPr/>
              <p:nvPr/>
            </p:nvSpPr>
            <p:spPr>
              <a:xfrm>
                <a:off x="1844640" y="3198960"/>
                <a:ext cx="510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>
                <a:off x="1844640" y="6464160"/>
                <a:ext cx="510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4" name="Line 21"/>
              <p:cNvSpPr/>
              <p:nvPr/>
            </p:nvSpPr>
            <p:spPr>
              <a:xfrm>
                <a:off x="1844640" y="3198960"/>
                <a:ext cx="0" cy="326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>
                <a:off x="6953400" y="3198960"/>
                <a:ext cx="0" cy="326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196" name="Group 23"/>
              <p:cNvGrpSpPr/>
              <p:nvPr/>
            </p:nvGrpSpPr>
            <p:grpSpPr>
              <a:xfrm>
                <a:off x="5340240" y="6110640"/>
                <a:ext cx="1612800" cy="353520"/>
                <a:chOff x="5340240" y="6110640"/>
                <a:chExt cx="1612800" cy="353520"/>
              </a:xfrm>
            </p:grpSpPr>
            <p:sp>
              <p:nvSpPr>
                <p:cNvPr id="197" name="Line 24"/>
                <p:cNvSpPr/>
                <p:nvPr/>
              </p:nvSpPr>
              <p:spPr>
                <a:xfrm flipV="1">
                  <a:off x="5916600" y="6271920"/>
                  <a:ext cx="0" cy="19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98" name="Line 25"/>
                <p:cNvSpPr/>
                <p:nvPr/>
              </p:nvSpPr>
              <p:spPr>
                <a:xfrm>
                  <a:off x="5340240" y="6110640"/>
                  <a:ext cx="1612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99" name="Line 26"/>
                <p:cNvSpPr/>
                <p:nvPr/>
              </p:nvSpPr>
              <p:spPr>
                <a:xfrm>
                  <a:off x="5340240" y="6271920"/>
                  <a:ext cx="107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200" name="Line 27"/>
                <p:cNvSpPr/>
                <p:nvPr/>
              </p:nvSpPr>
              <p:spPr>
                <a:xfrm>
                  <a:off x="6415200" y="611820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201" name="Line 28"/>
                <p:cNvSpPr/>
                <p:nvPr/>
              </p:nvSpPr>
              <p:spPr>
                <a:xfrm>
                  <a:off x="5340240" y="611820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 keep the drawing in proportion the actual dimensions are reduced in the same ratio. This is called ‘SCALING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30048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though the actual measurements are written on the drawing they don’t actually measure that amount on a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‘SCALED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drawin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4" descr="Photo 00017"/>
          <p:cNvPicPr/>
          <p:nvPr/>
        </p:nvPicPr>
        <p:blipFill>
          <a:blip r:embed="rId1"/>
          <a:stretch/>
        </p:blipFill>
        <p:spPr>
          <a:xfrm>
            <a:off x="5454720" y="4896000"/>
            <a:ext cx="23968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 keep the drawing in proportion the actual dimensions are reduced in the same ratio. This is called ‘SCALING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Picture 4" descr="Photo 00017"/>
          <p:cNvPicPr/>
          <p:nvPr/>
        </p:nvPicPr>
        <p:blipFill>
          <a:blip r:embed="rId1"/>
          <a:stretch/>
        </p:blipFill>
        <p:spPr>
          <a:xfrm>
            <a:off x="1806480" y="2963880"/>
            <a:ext cx="53532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y object can be drawn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purpose of drawing may be to show the object either as a picture or to show it in a way that would enable someone to make i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4" descr="Photo 00001"/>
          <p:cNvPicPr/>
          <p:nvPr/>
        </p:nvPicPr>
        <p:blipFill>
          <a:blip r:embed="rId1"/>
          <a:stretch/>
        </p:blipFill>
        <p:spPr>
          <a:xfrm>
            <a:off x="885960" y="2776680"/>
            <a:ext cx="7418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to scale is the reducing or enlarging by ratio of an object from its actual size that can fit onto a working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caling is a ratio that can be expressed as:                         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1:2  1:5  1:10  1:50  1:1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scale chosen depends on the size of the object and the size of the drawing pap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4" descr="Photo 00018"/>
          <p:cNvPicPr/>
          <p:nvPr/>
        </p:nvPicPr>
        <p:blipFill>
          <a:blip r:embed="rId1"/>
          <a:stretch/>
        </p:blipFill>
        <p:spPr>
          <a:xfrm>
            <a:off x="6515280" y="5450040"/>
            <a:ext cx="16668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to scale is the reducing or enlarging by ratio of an object from its actual size that can fit onto a working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Picture 4" descr="Photo 00018"/>
          <p:cNvPicPr/>
          <p:nvPr/>
        </p:nvPicPr>
        <p:blipFill>
          <a:blip r:embed="rId1"/>
          <a:stretch/>
        </p:blipFill>
        <p:spPr>
          <a:xfrm>
            <a:off x="1576440" y="2897280"/>
            <a:ext cx="5568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7080" y="148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n a scale of 1:5 the 300 represents 300mm  but to a scale of 1:5 in represents 60m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3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= 60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5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Picture 4" descr="Photo 00019"/>
          <p:cNvPicPr/>
          <p:nvPr/>
        </p:nvPicPr>
        <p:blipFill>
          <a:blip r:embed="rId1"/>
          <a:stretch/>
        </p:blipFill>
        <p:spPr>
          <a:xfrm>
            <a:off x="1844640" y="357660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f measurements are indicated on a drawing they should be used in preference to scal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14784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 dimensions are not shown on a drawing as this would clutter the working drawing. If this is the case scale matching the drawing can be done but accuracy can be compromis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Picture 4" descr="Photo 00020"/>
          <p:cNvPicPr/>
          <p:nvPr/>
        </p:nvPicPr>
        <p:blipFill>
          <a:blip r:embed="rId1"/>
          <a:stretch/>
        </p:blipFill>
        <p:spPr>
          <a:xfrm>
            <a:off x="5686560" y="4998960"/>
            <a:ext cx="23572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f measurements are indicated on a drawing they should be used in preference to scal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4" descr="Photo 00020"/>
          <p:cNvPicPr/>
          <p:nvPr/>
        </p:nvPicPr>
        <p:blipFill>
          <a:blip r:embed="rId1"/>
          <a:stretch/>
        </p:blipFill>
        <p:spPr>
          <a:xfrm>
            <a:off x="1600200" y="2687760"/>
            <a:ext cx="5891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6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t this stage you should be have some knowledge of:-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584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3 different types of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 to draw and recognise these typ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purpose of scal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 to use scal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4" descr="Photo 00021"/>
          <p:cNvPicPr/>
          <p:nvPr/>
        </p:nvPicPr>
        <p:blipFill>
          <a:blip r:embed="rId1"/>
          <a:stretch/>
        </p:blipFill>
        <p:spPr>
          <a:xfrm>
            <a:off x="4264200" y="3762360"/>
            <a:ext cx="4422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78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penters have to do the actual building which involves “READING” plans and interpreting drawing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out this knowledge of drawing any carpenter will find it hard to understand the plans and therefore hard to build the jo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4" descr="Photo 00022"/>
          <p:cNvPicPr/>
          <p:nvPr/>
        </p:nvPicPr>
        <p:blipFill>
          <a:blip r:embed="rId1"/>
          <a:stretch/>
        </p:blipFill>
        <p:spPr>
          <a:xfrm>
            <a:off x="2085840" y="3467160"/>
            <a:ext cx="49435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Photo 00021"/>
          <p:cNvPicPr/>
          <p:nvPr/>
        </p:nvPicPr>
        <p:blipFill>
          <a:blip r:embed="rId1"/>
          <a:stretch/>
        </p:blipFill>
        <p:spPr>
          <a:xfrm>
            <a:off x="577800" y="855720"/>
            <a:ext cx="79884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2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 the building Trade drawings serve two purpos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ttages can be drawn as a ‘pictorial’ by an archite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r drawn by a  builder to show what it will look like when finish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Photo 00002"/>
          <p:cNvPicPr/>
          <p:nvPr/>
        </p:nvPicPr>
        <p:blipFill>
          <a:blip r:embed="rId1"/>
          <a:stretch/>
        </p:blipFill>
        <p:spPr>
          <a:xfrm>
            <a:off x="5262480" y="3929040"/>
            <a:ext cx="34243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2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 the building Trade drawings serve two purpos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Photo 00002"/>
          <p:cNvPicPr/>
          <p:nvPr/>
        </p:nvPicPr>
        <p:blipFill>
          <a:blip r:embed="rId1"/>
          <a:stretch/>
        </p:blipFill>
        <p:spPr>
          <a:xfrm>
            <a:off x="1076400" y="1873080"/>
            <a:ext cx="67262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using joints can be shown the same way for similar reason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93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rough housing j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Photo 00003"/>
          <p:cNvPicPr/>
          <p:nvPr/>
        </p:nvPicPr>
        <p:blipFill>
          <a:blip r:embed="rId1"/>
          <a:stretch/>
        </p:blipFill>
        <p:spPr>
          <a:xfrm>
            <a:off x="1763640" y="1697040"/>
            <a:ext cx="55738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ttages can be drawn orthographical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8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is shows internal details such as: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om sizes and spacing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rthographic projections is from one aspect on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is gives the builder the information required to do the job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Photo 00004"/>
          <p:cNvPicPr/>
          <p:nvPr/>
        </p:nvPicPr>
        <p:blipFill>
          <a:blip r:embed="rId1"/>
          <a:stretch/>
        </p:blipFill>
        <p:spPr>
          <a:xfrm>
            <a:off x="5724360" y="4865760"/>
            <a:ext cx="23590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ttages can be drawn orthographical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4" descr="Photo 00004"/>
          <p:cNvPicPr/>
          <p:nvPr/>
        </p:nvPicPr>
        <p:blipFill>
          <a:blip r:embed="rId1"/>
          <a:stretch/>
        </p:blipFill>
        <p:spPr>
          <a:xfrm>
            <a:off x="961920" y="1754280"/>
            <a:ext cx="7121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also applies to a simple housing joint for the same reas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hoto 00005"/>
          <p:cNvPicPr/>
          <p:nvPr/>
        </p:nvPicPr>
        <p:blipFill>
          <a:blip r:embed="rId1"/>
          <a:stretch/>
        </p:blipFill>
        <p:spPr>
          <a:xfrm>
            <a:off x="1268280" y="1949400"/>
            <a:ext cx="6375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22:52:26Z</dcterms:created>
  <dc:creator>greg</dc:creator>
  <dc:description/>
  <dc:language>en-US</dc:language>
  <cp:lastModifiedBy>gcheetham</cp:lastModifiedBy>
  <dcterms:modified xsi:type="dcterms:W3CDTF">2009-03-03T00:04:50Z</dcterms:modified>
  <cp:revision>16</cp:revision>
  <dc:subject/>
  <dc:title>Orthographic, Oblique &amp; Isometric Projections </dc:title>
</cp:coreProperties>
</file>